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1F9D-F968-41C8-A414-2BD46D8B1D1D}"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291D-75E5-4792-A46A-C8DCF63EBF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48DC-6C58-4322-8892-DAB9D09530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75DC-1589-4788-A219-8F4B786ACC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BB9C-C363-4763-8ADC-A49EDE0AB7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4A42-A3EE-49EF-A877-5F354D8C24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1A4A-C5F9-4034-B560-46299E6C8F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740A0-0A76-4C6A-B406-6787D6A07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FE88C277-4609-45AA-A9BD-B78C93B36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EEC19748-75AD-4181-8039-FBF958343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3F5C69F6-F480-4D17-AA46-102A15D26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4605847-C444-483D-B144-241564B459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0A84E-F2FC-4E54-A724-A17400718B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43B420D-65C2-4E53-A5A8-E95B6BB562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67E8FDD-3A54-4474-8283-448CE722A3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D088FF8-7F1C-430F-9EF0-6847E67E63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DDCC00AF-83D9-45EC-B6CF-73D5BE8267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AC3F77B-132A-4EA5-B923-6841912B4A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1C2E57C-7ECC-4077-B552-F01B45F623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5F521AE-216B-4266-9A4C-BD57435AD0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7D2A941-D7B3-4B4F-A47A-F91C6F67D9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E4DC8F9-DAB0-45A8-B7A0-CC51BDEA72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0AD18D8-05A0-440A-B098-8D05F87E97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6F818C74-BFBE-455F-8603-393BCC6652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FD5B0AC-FDF9-4A8C-92C0-4FFDF294DB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A87894A6-3EBC-43CB-BF02-B116EE4B78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60FF058C-59B4-4681-9760-37B157707A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D273681E-5928-4CD3-B2F4-08747D39E4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96563D-DE72-4CAB-824C-D816A2078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CEE60-AE64-4841-A83D-90BA056AE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C5317-C898-4259-A291-3667F996F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99CA5-67F6-408B-898D-192603C31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7F3B9-F53C-48A9-B3A2-EA3F82D4B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D2152-8456-444D-9C74-E1500237D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9A5C0-5DE8-44E2-89A1-C36C56794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65C71-E10C-4D49-B28D-811DFE1A8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8495D-30AD-4D1D-8CA4-BCFF84C6E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B4C3BE32-F649-43E5-8FD5-936E36DB49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B5917-6B83-4B0A-982C-CA2E23796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CC987-446A-49BE-AD1D-1D91800291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2A0F1-2BC3-4347-99A4-7951D57B3F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5423DD-8073-4BDB-97E5-8DB7BBC00E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217C28-6773-40E6-98B4-3B3962E2E6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65EF5F-8628-4B1B-B95F-56F7650CCD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4C1D79-BD82-4D82-8C23-6E4E42F93A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9E8135-4049-4B4D-B7D0-2C2B73DFAA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974D95-779E-4E5A-852F-ED3CAF9B99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7F0753-4FE3-49B7-9131-75DD48CB57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63C2C5F-4899-4601-AE01-C44A54DC4D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AB7B28-DC3E-451A-BA14-70C38FF3F3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F8BA8D-385D-4934-87A7-F258128463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AA3EBE-513D-41DE-A015-9A2FACDD87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23F16B-17A3-4CC4-8399-3CCBA46D17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24BF0C-6BBB-47DB-A154-CA2E816056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2E1BA671-7FEA-4C1D-B61A-D12CAF6FB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253B-9E3C-434C-BA70-ECF5930A585C}"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7F38-E29B-4776-B63A-904B63C67C87}"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1F07-E51B-4F31-966F-ADCBCBE2C45F}" type="datetime">
              <a:rPr b="0" lang="en-US" sz="2400" spc="-1" strike="noStrike">
                <a:solidFill>
                  <a:srgbClr val="000000"/>
                </a:solidFill>
                <a:latin typeface="Calibri"/>
                <a:ea typeface="Arial"/>
              </a:rPr>
              <a:t>07/31/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9E6D-DE67-40F7-B42B-333C97CE1712}" type="datetime">
              <a:rPr b="0" lang="en-US" sz="2400" spc="-1" strike="noStrike">
                <a:solidFill>
                  <a:srgbClr val="000000"/>
                </a:solidFill>
                <a:latin typeface="Calibri"/>
                <a:ea typeface="Arial"/>
              </a:rPr>
              <a:t>07/31/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BDB3-7B03-416C-B892-AF2FA786A3E0}"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